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49F-C9A0-4236-9158-2103C930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C3B-44C1-43C9-B8EC-DF45D4E0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895-A7D3-455A-8830-8FBDAC3B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E14-08B2-484F-89CB-DB158AF6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1EF-75B2-4496-94F3-2367543E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B9C-4C10-4479-93F6-0B4653C2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BB9-8A54-4D0E-B41F-5ED30B1D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BFF-0306-4EB3-A60E-5F87D462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06D-9C6B-4CE9-B43B-B04A129C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9D7-6EC4-4C80-90CB-FBFDE4B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1CC-EBFD-41E4-A160-B56D953F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E91-AAC0-4050-A2BF-4F6B2B60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77BA-57B4-463C-9B2C-06F3BC759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76920" y="4192200"/>
            <a:ext cx="3970080" cy="12207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83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Роль бактерий в природ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73200" y="6143760"/>
            <a:ext cx="39704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cddd"/>
                </a:solidFill>
                <a:latin typeface="Calibri"/>
              </a:rPr>
              <a:t>Царенкова Наталья Александровна, учитель химии и биологии. МКОУ СОШ с. Тополево, Хабаровского района, Хабаровского края. 2015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680" y="1499760"/>
            <a:ext cx="8245440" cy="4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859c"/>
                </a:solidFill>
                <a:latin typeface="Calibri"/>
              </a:rPr>
              <a:t>Учебник: В. В. Пасечник. Биология – Бактерии, грибы, растения. ФГОС. 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C:\Users\Наташа\Desktop\грамоты\IMG_2314.JPG"/>
          <p:cNvPicPr/>
          <p:nvPr/>
        </p:nvPicPr>
        <p:blipFill>
          <a:blip r:embed="rId1"/>
          <a:stretch/>
        </p:blipFill>
        <p:spPr>
          <a:xfrm>
            <a:off x="2500200" y="2286000"/>
            <a:ext cx="328608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1560" y="1290240"/>
            <a:ext cx="8245440" cy="4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Calibri"/>
              </a:rPr>
              <a:t>Проверка домашней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1560" y="1901520"/>
            <a:ext cx="8245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то такие бактери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ие формы бактерий вы знаете? Перечислите и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е строение имеет бактериальная клет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де обитают бактери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питаются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личия бактериальной клетки от растительно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5600" y="-360"/>
            <a:ext cx="7024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859c"/>
                </a:solidFill>
                <a:latin typeface="Calibri"/>
              </a:rPr>
              <a:t>?Вопрос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14680" y="642600"/>
            <a:ext cx="701640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чему так трудно справиться с микроскопическими, примитивно устроенными организм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elfikarussian.ru/wp-content/uploads/2010/11/333331.jpg"/>
          <p:cNvPicPr/>
          <p:nvPr/>
        </p:nvPicPr>
        <p:blipFill>
          <a:blip r:embed="rId2"/>
          <a:stretch/>
        </p:blipFill>
        <p:spPr>
          <a:xfrm>
            <a:off x="3214800" y="2120760"/>
            <a:ext cx="45720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824544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Физминутка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img11.nnm.me/d/6/4/8/6/d6486f48e33200220cb552b269488d9b_full.jpg"/>
          <p:cNvPicPr/>
          <p:nvPr/>
        </p:nvPicPr>
        <p:blipFill>
          <a:blip r:embed="rId1"/>
          <a:stretch/>
        </p:blipFill>
        <p:spPr>
          <a:xfrm>
            <a:off x="1857240" y="2500200"/>
            <a:ext cx="56199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428480"/>
            <a:ext cx="83818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при благоприятных условиях очень быстро размножают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4200" y="2999880"/>
            <a:ext cx="4275360" cy="6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Calibri"/>
              </a:rPr>
              <a:t>Как быстро размножаются бактерии? </a:t>
            </a:r>
            <a:r>
              <a:rPr b="1" lang="ru-RU" sz="2800" spc="-1" strike="noStrike" u="sng">
                <a:solidFill>
                  <a:srgbClr val="31859c"/>
                </a:solidFill>
                <a:uFillTx/>
                <a:latin typeface="Calibri"/>
              </a:rPr>
              <a:t>Стр 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3929040"/>
            <a:ext cx="3571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факторы снижают неограниченный рост бактери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 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2499840"/>
            <a:ext cx="4122720" cy="6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Calibri"/>
              </a:rPr>
              <a:t>Каким образом они размножаются? </a:t>
            </a:r>
            <a:r>
              <a:rPr b="1" lang="ru-RU" sz="2800" spc="-1" strike="noStrike" u="sng">
                <a:solidFill>
                  <a:srgbClr val="31859c"/>
                </a:solidFill>
                <a:uFillTx/>
                <a:latin typeface="Calibri"/>
              </a:rPr>
              <a:t>Стр 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ferra.ru/ru/apps/uploads/images/00/02/38/2014/03/29/2bbb8a.jpg"/>
          <p:cNvPicPr/>
          <p:nvPr/>
        </p:nvPicPr>
        <p:blipFill>
          <a:blip r:embed="rId1"/>
          <a:stretch/>
        </p:blipFill>
        <p:spPr>
          <a:xfrm>
            <a:off x="3571920" y="3429000"/>
            <a:ext cx="5429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1643040"/>
            <a:ext cx="824544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859c"/>
                </a:solidFill>
                <a:latin typeface="Calibri"/>
              </a:rPr>
              <a:t>Могут ли бактерии пережить эти ограничивающие фактор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71680" y="5428800"/>
            <a:ext cx="824544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е функции выполняет СПОР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происходит со спорой в благоприятных условия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biouroki.ru/content/page/685/14.png"/>
          <p:cNvPicPr/>
          <p:nvPr/>
        </p:nvPicPr>
        <p:blipFill>
          <a:blip r:embed="rId1"/>
          <a:stretch/>
        </p:blipFill>
        <p:spPr>
          <a:xfrm>
            <a:off x="285840" y="2428920"/>
            <a:ext cx="8601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1560" y="1229040"/>
            <a:ext cx="824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1859c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1560" y="1901520"/>
            <a:ext cx="8245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машнее задание: стр 54-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олнить «Подумайт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Наташа</cp:lastModifiedBy>
  <dcterms:modified xsi:type="dcterms:W3CDTF">2015-02-03T09:27:52Z</dcterms:modified>
  <cp:revision>45</cp:revision>
  <dc:subject/>
  <dc:title>PowerPoint Presentation</dc:title>
</cp:coreProperties>
</file>